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745-A42C-467A-81EB-F4DADE3C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BC4-0913-42F4-9F70-D3A10644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9C7-E6A2-4C3C-85F3-F406C8F4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9C6-72CE-43BE-A6C5-F2F30221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AE3-FC17-404F-8177-2D80171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A19-4587-4BC9-BD98-3D000302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A9E-3AF4-4C4E-B550-F0EAA49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B5A-0C55-42F3-B86B-C4C23B2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A16-C7FE-4F12-9924-F7536A7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3FA-2866-4EB7-8853-5ED36F0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163-A1EE-4E62-9F11-E47BF25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467-517D-4174-AE25-79166180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234F-6CCC-4DAC-B324-00FD754E03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5.pn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" name="Рисунок 48" descr=""/>
          <p:cNvPicPr/>
          <p:nvPr/>
        </p:nvPicPr>
        <p:blipFill>
          <a:blip r:embed="rId1"/>
          <a:srcRect l="52180" t="42594" r="16927" b="322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Викторина ко Дню России 28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. Кто автор слов Российского Гимна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132000" y="4508640"/>
            <a:ext cx="525636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. Михал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. Есен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В. Мая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059280" y="342900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. Марш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Викторина ко Дню России 279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9. Кто является Российским Президентом в настоящее время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059280" y="5661000"/>
            <a:ext cx="525600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Д. Медвед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059280" y="2205000"/>
            <a:ext cx="525600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Б. Ель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Б. Об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059280" y="342900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В. Пу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Викторина ко Дню России 28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. Какого права нет у граждан России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059280" y="3284640"/>
            <a:ext cx="5473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раво на бездель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59280" y="5734080"/>
            <a:ext cx="5473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раво на отд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059280" y="4508640"/>
            <a:ext cx="5473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раво на образа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059280" y="2060640"/>
            <a:ext cx="547344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раво на тру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Викторина ко Дню России 281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1. Как правильно пишется название нашей страны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асс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ас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059280" y="342900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о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Викторина ко Дню России 28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2. На каком материке расположена Российская Федерация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Австра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059280" y="342900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Викторина ко Дню России 28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4" descr="1485021"/>
          <p:cNvPicPr/>
          <p:nvPr/>
        </p:nvPicPr>
        <p:blipFill>
          <a:blip r:embed="rId1"/>
          <a:srcRect l="1277" t="2741" r="1277" b="1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13fb2418eaa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3" descr="1247709470_sport-vo-dvore"/>
          <p:cNvPicPr/>
          <p:nvPr/>
        </p:nvPicPr>
        <p:blipFill>
          <a:blip r:embed="rId3"/>
          <a:srcRect l="0" t="0" r="11636" b="8336"/>
          <a:stretch/>
        </p:blipFill>
        <p:spPr>
          <a:xfrm>
            <a:off x="0" y="-257040"/>
            <a:ext cx="9325080" cy="711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bild08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kremlin_3_modifie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3377"/>
          <p:cNvPicPr/>
          <p:nvPr/>
        </p:nvPicPr>
        <p:blipFill>
          <a:blip r:embed="rId6"/>
          <a:srcRect l="0" t="0" r="6680" b="3789"/>
          <a:stretch/>
        </p:blipFill>
        <p:spPr>
          <a:xfrm>
            <a:off x="0" y="-7308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180" name="s_chego_nachinaetsya_rodina.mp3" descr=""/>
          <p:cNvPicPr/>
          <p:nvPr/>
        </p:nvPicPr>
        <p:blipFill>
          <a:blip r:embed="rId7"/>
          <a:stretch/>
        </p:blipFill>
        <p:spPr>
          <a:xfrm>
            <a:off x="826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7bf85b4d047ee0b08f92cf402b1229da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7" descr="6116300_b3167d93"/>
          <p:cNvPicPr/>
          <p:nvPr/>
        </p:nvPicPr>
        <p:blipFill>
          <a:blip r:embed="rId9"/>
          <a:srcRect l="6474" t="2396" r="1756" b="2366"/>
          <a:stretch/>
        </p:blipFill>
        <p:spPr>
          <a:xfrm>
            <a:off x="0" y="-458640"/>
            <a:ext cx="9325080" cy="731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1" descr="60639053_den_pamyati1"/>
          <p:cNvPicPr/>
          <p:nvPr/>
        </p:nvPicPr>
        <p:blipFill>
          <a:blip r:embed="rId10"/>
          <a:stretch/>
        </p:blipFill>
        <p:spPr>
          <a:xfrm>
            <a:off x="0" y="-13644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5" descr="b_2995_2011_04_24_07_28_44"/>
          <p:cNvPicPr/>
          <p:nvPr/>
        </p:nvPicPr>
        <p:blipFill>
          <a:blip r:embed="rId11"/>
          <a:srcRect l="0" t="0" r="3389" b="5422"/>
          <a:stretch/>
        </p:blipFill>
        <p:spPr>
          <a:xfrm>
            <a:off x="0" y="-316080"/>
            <a:ext cx="9325080" cy="717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a40db6f78d6b"/>
          <p:cNvPicPr/>
          <p:nvPr/>
        </p:nvPicPr>
        <p:blipFill>
          <a:blip r:embed="rId12"/>
          <a:stretch/>
        </p:blipFill>
        <p:spPr>
          <a:xfrm>
            <a:off x="0" y="-316080"/>
            <a:ext cx="9325080" cy="717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9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3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5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7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0" y="260280"/>
            <a:ext cx="91440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теперь проверьте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РОССИЯНЕ                             7. ПЁТР 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КОНСТИТУЦИЯ                      8. С. 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ЗЕЛЁНОГО                             9. В. ПУ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ВСАДНИК С КОПЬЁМ         10. ПРАВ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3                                                   БЕЗДЕЛЬЕ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КРАСНЫЙ                             11. 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. 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Викторина ко Дню России 28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44600" y="2206800"/>
            <a:ext cx="8699400" cy="1884240"/>
          </a:xfrm>
          <a:prstGeom prst="rect">
            <a:avLst/>
          </a:prstGeom>
          <a:ln w="0">
            <a:noFill/>
          </a:ln>
        </p:spPr>
      </p:pic>
      <p:pic>
        <p:nvPicPr>
          <p:cNvPr id="189" name="Викторина ко Дню России 26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7"/>
          <p:cNvSpPr txBox="1"/>
          <p:nvPr/>
        </p:nvSpPr>
        <p:spPr>
          <a:xfrm>
            <a:off x="468360" y="1557360"/>
            <a:ext cx="82789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а Родина -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2916360" y="4581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БОУ «ЦО № 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. Новомосков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уль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ЛОТОВА  ЮЛИЯ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Викторина ко Дню России 270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271476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4859280" y="3500280"/>
            <a:ext cx="388800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Марси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859280" y="2349360"/>
            <a:ext cx="388800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еверя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859280" y="5734080"/>
            <a:ext cx="388800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оссия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4859280" y="4581360"/>
            <a:ext cx="3888000" cy="7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Рус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Как называют жителей нашей стра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Викторина ко Дню России 25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2. Как  называется основной закон нашей страны, в котором закреплены наши права и обязанности?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059280" y="335772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Конститу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аспо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Трудовой ко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Красная кни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Викторина ко Дню России 25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Какого цвета нет на российском флаге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692360" y="134136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132000" y="4581360"/>
            <a:ext cx="525636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Зелё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ин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132000" y="3429000"/>
            <a:ext cx="525636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Бел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Крас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Викторина ко Дню России 27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4. Кто изображён в центре российского герба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59280" y="335772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Всадник с копь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Охотник с копь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Всадник с ружь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Охотник с ружь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Викторина ко Дню России 276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Сколько корон имеет орёл на гербе?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219640" y="4221000"/>
            <a:ext cx="129708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588000" y="5229360"/>
            <a:ext cx="136872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835280" y="2492280"/>
            <a:ext cx="136836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780000" y="3284640"/>
            <a:ext cx="129672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Викторина ко Дню России 27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6. Какой цвет нашего флага олицетворяет силу, отвагу и героизм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059280" y="2276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059280" y="57340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Ника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059280" y="450864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Си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059280" y="342900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Б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Викторина ко Дню России 27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7. Кто из русских царей впервые ввёл в России трёхцветный флаг?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619280" y="16286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619280" y="2637000"/>
            <a:ext cx="67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63640" y="364500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1835280" y="4508640"/>
            <a:ext cx="51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059280" y="5661000"/>
            <a:ext cx="525600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Пётр </a:t>
            </a:r>
            <a:r>
              <a:rPr b="1" lang="en-US" sz="3600" spc="-1" strike="noStrike">
                <a:solidFill>
                  <a:srgbClr val="ad1f1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059280" y="4221000"/>
            <a:ext cx="525600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Иван </a:t>
            </a:r>
            <a:r>
              <a:rPr b="1" lang="en-US" sz="3600" spc="-1" strike="noStrike">
                <a:solidFill>
                  <a:srgbClr val="ad1f1f"/>
                </a:solidFill>
                <a:latin typeface="Arial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059280" y="2924280"/>
            <a:ext cx="5256000" cy="79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Николай </a:t>
            </a:r>
            <a:r>
              <a:rPr b="1" lang="en-US" sz="3600" spc="-1" strike="noStrike">
                <a:solidFill>
                  <a:srgbClr val="ad1f1f"/>
                </a:solidFill>
                <a:latin typeface="Arial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59280" y="1628640"/>
            <a:ext cx="5256000" cy="792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1f1f"/>
                </a:solidFill>
                <a:latin typeface="Arial"/>
              </a:rPr>
              <a:t>Николай </a:t>
            </a:r>
            <a:r>
              <a:rPr b="1" lang="en-US" sz="3600" spc="-1" strike="noStrike">
                <a:solidFill>
                  <a:srgbClr val="ad1f1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Викторина ко Дню России 27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7:09:14Z</dcterms:created>
  <dc:creator>HP Pavilion</dc:creator>
  <dc:description/>
  <dc:language>en-US</dc:language>
  <cp:lastModifiedBy>User</cp:lastModifiedBy>
  <dcterms:modified xsi:type="dcterms:W3CDTF">2020-06-02T11:06:58Z</dcterms:modified>
  <cp:revision>40</cp:revision>
  <dc:subject/>
  <dc:title>Слайд 1</dc:title>
</cp:coreProperties>
</file>